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71558"/>
        <c:axId val="3793625"/>
      </c:barChart>
      <c:catAx>
        <c:axId val="64971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3625"/>
        <c:crosses val="autoZero"/>
        <c:auto val="1"/>
        <c:lblAlgn val="ctr"/>
        <c:lblOffset val="100"/>
        <c:noMultiLvlLbl val="0"/>
      </c:catAx>
      <c:valAx>
        <c:axId val="3793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71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D6C-F7B7-4E9F-9FC2-6B3075BF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BC9-0AFB-43F5-A42D-3BC0CE68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78A-2EDD-4143-BE53-7F1E0FDC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C4B-ACDA-4607-9F08-0E85A426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F43-D9B0-4B2C-850B-1E523898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CE5-5AB7-4764-8FC6-C0D98E59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82A-7EE1-4E7C-B196-F4AF04CD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99C-FFB0-4C99-8ECE-6646D8EE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5A5-C3FA-40D4-9037-D2E34998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5DA-EA75-4171-BA91-E0FD420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CEE-FDD6-4887-AB31-3C876AD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56D-A092-4E5D-8EE2-B1DBCCF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9293D-516D-4D69-8904-C81A10A683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