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5169"/>
        <c:axId val="59093286"/>
      </c:barChart>
      <c:catAx>
        <c:axId val="6505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93286"/>
        <c:crosses val="autoZero"/>
        <c:auto val="1"/>
        <c:lblAlgn val="ctr"/>
        <c:lblOffset val="100"/>
        <c:noMultiLvlLbl val="0"/>
      </c:catAx>
      <c:valAx>
        <c:axId val="59093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5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F82-86C6-4FC5-B37A-770C15FD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27B-18A4-48FD-8B2C-E59B1593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AE7-D8E7-4CC9-8DDB-D80ACA3D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D3A-F75A-444F-BCC1-1DD95CA5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C1B-D5E4-473F-8AA8-45DDB2E1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CE3-66EA-4140-8E7D-9393B2FA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D32-807E-4BAD-9E0E-5E1F6EE0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24F-A613-444A-AB1E-93D78CDF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340-6DDD-47F7-9CF6-441E48A2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EC6-E4D6-4831-946B-59447528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F82-8C65-4C41-B52D-F01644C7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FCA-DEEE-4AEA-A528-FF24DCBB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3EAED-9B59-4C8C-B668-D3FBFE5A5B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