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36381"/>
        <c:axId val="63057720"/>
      </c:barChart>
      <c:catAx>
        <c:axId val="51036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57720"/>
        <c:crosses val="autoZero"/>
        <c:auto val="1"/>
        <c:lblAlgn val="ctr"/>
        <c:lblOffset val="100"/>
        <c:noMultiLvlLbl val="0"/>
      </c:catAx>
      <c:valAx>
        <c:axId val="63057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36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0AD-10CB-4AB1-9B80-17C86A4B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E95-C3A0-4CE4-BDC6-5FB8CA1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3AC-4B5F-420D-898C-69D0860C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0DD-DE6D-47BB-A709-30254B9D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5E9-BBC9-4A69-9FB6-B2520D0A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FB2-0234-4EA8-9C13-2C461CE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19E-BCAA-4D78-A088-23341934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DB3-9304-488D-B9DA-1B6014BC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90E-EB15-43DF-BF89-126B3D11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E67-DAE1-4A39-A771-BDE98FBC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488-F229-4B83-9365-AB28FAF2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A50-9D45-40B6-B904-1BF7E4C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A95CD-65FF-406F-97AD-243B925AF2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