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90156"/>
        <c:axId val="8880317"/>
      </c:barChart>
      <c:catAx>
        <c:axId val="50490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0317"/>
        <c:crosses val="autoZero"/>
        <c:auto val="1"/>
        <c:lblAlgn val="ctr"/>
        <c:lblOffset val="100"/>
        <c:noMultiLvlLbl val="0"/>
      </c:catAx>
      <c:valAx>
        <c:axId val="8880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90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697-246E-434E-A65F-54502579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A66-1FFF-411E-8F9F-F5524A3F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C35-E208-48B6-A2CC-4416AE0B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FB5-9A84-4B0D-9369-D47EB9E7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C27-D52B-467F-88F1-5F5CDD6D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D0E-10C9-4874-9189-42A66963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462-19C8-456D-B4D0-18621689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FBB-DF8C-4FBD-B2F3-A87F66E0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BA2-F2C2-4384-B8DF-D6E116F1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3FF-8150-420A-9542-E555572E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153-F327-49C2-8A3F-6A1E991D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0C0-8D97-45BC-8795-2C70DEB0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47BB7-7A7B-4095-A460-56ECD5F485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