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21771"/>
        <c:axId val="29321739"/>
      </c:barChart>
      <c:catAx>
        <c:axId val="68821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21739"/>
        <c:crosses val="autoZero"/>
        <c:auto val="1"/>
        <c:lblAlgn val="ctr"/>
        <c:lblOffset val="100"/>
        <c:noMultiLvlLbl val="0"/>
      </c:catAx>
      <c:valAx>
        <c:axId val="29321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21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5C4-39DB-4BF2-818B-B8BE466B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6EF-402B-44A8-BC18-FED4A5C7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1EF-5A01-4856-A431-140509E3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A88-2748-4B44-8B76-5BA77A2D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0F2-F7AF-4A7B-938F-1D56DFAB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A84-717D-4DF2-8055-7F341DC4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186-A3C1-41B1-89D5-D4BC69DD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A5D-7E57-4CE2-AFA9-2FDF6DB2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03B-22FC-4F96-89F5-2E06D2DC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4FE-1C9A-4B30-9CDD-CCD74F28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8E0-DE59-4B6D-8E35-4BC26F65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3DB-5BE4-4E1B-B2E3-D8F13F25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2884E-216C-4EDA-B84D-5DA41606AB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