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8840531"/>
        <c:axId val="93844697"/>
      </c:barChart>
      <c:catAx>
        <c:axId val="5884053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844697"/>
        <c:crosses val="autoZero"/>
        <c:auto val="1"/>
        <c:lblAlgn val="ctr"/>
        <c:lblOffset val="100"/>
        <c:noMultiLvlLbl val="0"/>
      </c:catAx>
      <c:valAx>
        <c:axId val="9384469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84053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966F-0B2D-4775-AE61-ED737523A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D611-5A56-4348-AB69-ECD9E1D8C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E389-6E9D-433D-8808-2779D91C9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7B07-1CDB-4E54-AE5A-84C4A0937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91BD-9E71-4DD5-85B6-9C4193FF8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40FE-DE4A-4529-B56C-856DC8875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2278-659D-4705-AD22-A46707534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C6CB-8107-4CFF-8EDA-21A81092F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7DEB-2D6C-44A2-AA2D-DDDE674F8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6BBF-27A0-44FF-B40B-98B7AB13B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AD16-C799-4AFB-9214-2DA073BBA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ADFE-58E9-4F14-954A-3E8DEA7C6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B83C16-5978-4B49-81A2-F3DC8C1A2F3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