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00537"/>
        <c:axId val="69701358"/>
      </c:barChart>
      <c:catAx>
        <c:axId val="72200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01358"/>
        <c:crosses val="autoZero"/>
        <c:auto val="1"/>
        <c:lblAlgn val="ctr"/>
        <c:lblOffset val="100"/>
        <c:noMultiLvlLbl val="0"/>
      </c:catAx>
      <c:valAx>
        <c:axId val="69701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0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BA3-342C-427A-BE93-C2D7E38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3CE-F6FB-4F4D-8275-FF3F151E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198-4130-48B2-8D61-FB8DA544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099-B816-4095-BF3C-D12B1E08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F9B-3695-435E-B48E-3A35015F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338-04E7-43A1-A988-E703DEC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F3C-CFF1-4427-898F-0CBE79BE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CBD-AE3C-4292-AC8E-3279E6D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5DC-D124-4608-B81F-863D9A21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18C-A862-4B39-AA97-154ECAA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CBC-47A9-444E-8BCF-7C482CC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A61-4574-4F0E-8273-0421A05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0F2C-01F2-4A3D-B435-811C97FBB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