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95915"/>
        <c:axId val="93319455"/>
      </c:barChart>
      <c:catAx>
        <c:axId val="56095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19455"/>
        <c:crosses val="autoZero"/>
        <c:auto val="1"/>
        <c:lblAlgn val="ctr"/>
        <c:lblOffset val="100"/>
        <c:noMultiLvlLbl val="0"/>
      </c:catAx>
      <c:valAx>
        <c:axId val="93319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95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BD4-03D1-4FA1-AF17-12D33A72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C95-E7C0-4B91-8166-AF5A352B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157-F075-43DF-B6E3-899367DA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1C6-49B7-4344-A5E5-93D86834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74C-CE0A-4B38-8B2D-6C57210E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AFC-EEBB-44D7-80F2-8FABECB7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525-7665-430D-898A-680B6509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ED9-0E9A-424D-9DB5-BAD0161D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C97-BBFC-4F1D-9E9E-765F766C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3AC-A650-419D-9FA7-61D51250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A09-A777-4494-820B-601F3569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D9D-E880-4D9B-B986-C84100BA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86D32-5090-4A4B-9B7C-1FD7706F5A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