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36189"/>
        <c:axId val="29401415"/>
      </c:barChart>
      <c:catAx>
        <c:axId val="92836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01415"/>
        <c:crosses val="autoZero"/>
        <c:auto val="1"/>
        <c:lblAlgn val="ctr"/>
        <c:lblOffset val="100"/>
        <c:noMultiLvlLbl val="0"/>
      </c:catAx>
      <c:valAx>
        <c:axId val="29401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36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965-4DF1-4672-878E-2CE6F6B2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8CB-2C56-4802-BA2C-B89FB37E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A80-2E51-4BE4-BE54-7552BC5F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C9E-3AC7-4C9A-A8EF-E6B83193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EEF-E4C6-481C-A49A-B6BF6BC7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5E2-8D7F-459F-8B00-EBDD9411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88E-59D4-4F19-9E00-21A7A24C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F67-43BB-4047-8282-425821EF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C19-E8F5-4B2D-982A-1A14B328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570-B069-4B54-BB01-9BCDD6B2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32F-66CF-4101-8E24-CC83AD2B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7D8-9065-4917-A24D-A2076F5A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D0503-FA93-4549-8F21-80E70834F6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