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606057"/>
        <c:axId val="36432295"/>
      </c:barChart>
      <c:catAx>
        <c:axId val="596060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432295"/>
        <c:crosses val="autoZero"/>
        <c:auto val="1"/>
        <c:lblAlgn val="ctr"/>
        <c:lblOffset val="100"/>
        <c:noMultiLvlLbl val="0"/>
      </c:catAx>
      <c:valAx>
        <c:axId val="364322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6060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43A6-DA21-47C3-A3DB-FA4E13BD6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8DB0-BA4F-4FBC-940D-13BA4F3C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454C-FD6A-4405-B464-FEDDC8CA7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C553-3EEA-489E-AA0D-FA80F6DCB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84BA-F2BF-49E2-8E55-D69BF0FF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C61E-19FA-4E40-B2CD-3AAA316D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AD0E-9441-460E-8AEE-A58C6638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618D-48D4-47ED-8B79-B74B11FD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A48E-0FC1-4B66-A2A6-8964150F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ED17-CCD8-41A7-A938-7E070C4C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E518-A2B5-4FB6-A404-A34402AE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7099-1C8E-433E-A47B-F553A0C8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A5D0DF-E638-44D9-9FD2-393C3A7F2D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