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80528"/>
        <c:axId val="19692475"/>
      </c:barChart>
      <c:catAx>
        <c:axId val="86580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2475"/>
        <c:crosses val="autoZero"/>
        <c:auto val="1"/>
        <c:lblAlgn val="ctr"/>
        <c:lblOffset val="100"/>
        <c:noMultiLvlLbl val="0"/>
      </c:catAx>
      <c:valAx>
        <c:axId val="19692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0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5D4-AB2C-4812-9211-AB61A598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E22-C3C5-456C-AA87-F45CB182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A9A-C94D-4E70-B389-D6E9824A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923-1A6D-43C0-80B2-49C403DA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B53-A516-4A1C-921E-FAFE6A3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584-12B8-4EC4-9A56-4CD97677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33A-5AC5-4DAF-A239-C3A13F4F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1A1-6F6D-4139-A8FD-C51B4112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215-A5D1-41C2-B9F2-4B3ED7E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DC1-8EC2-482C-B173-883B87B5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E08-6C49-46E1-84A4-8FBA6D64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B51-8B7C-4896-8A1D-8C3E4843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66AD8-2A4E-4186-9778-542FB4D87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