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383931"/>
        <c:axId val="68085620"/>
      </c:barChart>
      <c:catAx>
        <c:axId val="693839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85620"/>
        <c:crosses val="autoZero"/>
        <c:auto val="1"/>
        <c:lblAlgn val="ctr"/>
        <c:lblOffset val="100"/>
        <c:noMultiLvlLbl val="0"/>
      </c:catAx>
      <c:valAx>
        <c:axId val="68085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839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C379-1CC7-46E9-88A9-EF4D94E6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9AA-82E2-4E70-869E-152DF1A2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933-1363-4A4D-87C0-7AB3C739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ED9-1755-49BF-8665-D8F5E434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4BD-1D27-4173-A044-394F3A8C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9F8-A096-4CDA-8A56-1ACD1FB1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402-67F0-4B08-A497-46B378E5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C564-8945-4FCF-80F2-28AD82B7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C34-575C-4877-9D14-147B1649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275-BF37-4B72-97D1-31302EAF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A1C-8523-429B-993E-1E5580A6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38D-E8CB-4C11-BECC-A1997495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A4954-89E3-4A73-8F74-3A7F77FDE2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