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24396"/>
        <c:axId val="43908179"/>
      </c:barChart>
      <c:catAx>
        <c:axId val="94924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08179"/>
        <c:crosses val="autoZero"/>
        <c:auto val="1"/>
        <c:lblAlgn val="ctr"/>
        <c:lblOffset val="100"/>
        <c:noMultiLvlLbl val="0"/>
      </c:catAx>
      <c:valAx>
        <c:axId val="43908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24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2F1-3321-4D00-9B94-98C45DC8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11C-07C4-4533-9304-77AB20C6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3FC-3427-40A7-944D-8B950701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AEF-F2BA-4F5C-A588-B4D0C19C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D49-1B03-41E8-B9EC-9B6E5B62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ECE-1890-4A71-9E01-D959709E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FE7-C15C-41DF-A9F0-196FE892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D88-1AAF-4A50-8FE8-D34D725C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B88-6256-4915-9ABC-F65C438E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DE2-6237-4645-A008-02DE151A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E72-C979-493F-9A89-D67B6FC2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EE8-CC2E-4745-9F2C-3343C9AC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9A26D-8CDE-4264-A273-6A2F9B1865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