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65666"/>
        <c:axId val="5584187"/>
      </c:barChart>
      <c:catAx>
        <c:axId val="38565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4187"/>
        <c:crosses val="autoZero"/>
        <c:auto val="1"/>
        <c:lblAlgn val="ctr"/>
        <c:lblOffset val="100"/>
        <c:noMultiLvlLbl val="0"/>
      </c:catAx>
      <c:valAx>
        <c:axId val="5584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65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5BC-F0E8-4FE8-8971-EDFAF7C0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F5A-6B3F-46F5-A1A0-F1C328D7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080-DC0B-412C-8079-752AB4C7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72F-7B4E-42F9-A4D6-17511FC4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3FF-D3D1-4083-AA77-9CFB3921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68C-11C0-47E7-A1D5-E9987F54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671-F2A3-450F-8DAB-87457AD4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BD8-22BE-49B3-B73C-2D8FA291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A9E-FB6A-40D6-A1BB-0C707FF2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406-0A75-4AEC-A6F4-F4ED9E9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984-F33F-42A2-81F8-DAE97B3E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777-9406-440C-A9D6-D4033F32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212B0-A73F-4E59-AC1E-B896C09768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