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95994"/>
        <c:axId val="60113055"/>
      </c:barChart>
      <c:catAx>
        <c:axId val="76095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13055"/>
        <c:crosses val="autoZero"/>
        <c:auto val="1"/>
        <c:lblAlgn val="ctr"/>
        <c:lblOffset val="100"/>
        <c:noMultiLvlLbl val="0"/>
      </c:catAx>
      <c:valAx>
        <c:axId val="60113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95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D03-E9D1-41FA-A272-6B236853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B63-0187-4A9C-AD53-C327525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0AA-C263-4C97-964E-1364A875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FA7-BE3E-4068-90BE-8F589094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67F-9FA6-4523-B7BA-CE91416B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851-2D02-4198-B913-B7049F1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16E-C4DA-4F62-8C9B-85EB0EC7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30A-F37C-44EC-A600-C5D128C2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9A6-0C90-4939-98FF-7E15698A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6CB-3004-4299-9B6D-7EB5B37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823-AA74-4487-B166-5D0B037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46F-B60E-477F-B988-DFB567CB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33504-C993-4ADA-A1C5-495E29218E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