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12523"/>
        <c:axId val="66407268"/>
      </c:barChart>
      <c:catAx>
        <c:axId val="67412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7268"/>
        <c:crosses val="autoZero"/>
        <c:auto val="1"/>
        <c:lblAlgn val="ctr"/>
        <c:lblOffset val="100"/>
        <c:noMultiLvlLbl val="0"/>
      </c:catAx>
      <c:valAx>
        <c:axId val="66407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12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459-BE4D-4051-AF85-3029AD5F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32F-C577-4EC2-98A3-6999E635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CD8-589A-46A2-BF09-D668C55F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742-C031-4101-A5F2-2283C26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259-061A-4DBE-8009-2C7F385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DCA-0A49-4268-A5F0-B816017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E09-CCCC-439F-A531-2CF95EA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21A-2DCC-4048-A4F0-EDEA2225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C9E-125E-4E00-A6CE-10FD5F4B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F87-3979-4DC8-B4D0-C7A6BAE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333-EA86-4F47-836D-2638A81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E50-4D27-4BF7-94DF-BBFF0B46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EC5F2-0E59-4EFA-98C0-2F8E1C8A20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