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52945"/>
        <c:axId val="96608067"/>
      </c:barChart>
      <c:catAx>
        <c:axId val="99452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08067"/>
        <c:crosses val="autoZero"/>
        <c:auto val="1"/>
        <c:lblAlgn val="ctr"/>
        <c:lblOffset val="100"/>
        <c:noMultiLvlLbl val="0"/>
      </c:catAx>
      <c:valAx>
        <c:axId val="96608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52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C00-8F76-4946-9BA0-A83F2A5F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460-7310-4785-A393-7C67200F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183-93AE-43D1-88F9-55CB3C49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9B8-0700-4D49-B56E-8EE9A106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FB2-4743-42AA-B51F-47363B74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2B6-A156-4665-8A0F-5BCFBB70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1A4-ECEC-4D26-B743-2E366F5D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485-8A8C-4127-8CF6-0D173623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8DC-6B1B-4D10-A4AE-89205D2F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821-D36E-416E-8DEA-46B32B8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4B7-4914-4A13-B69A-456E604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C2B-724F-4CC0-8F33-4C779060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2AFF8-2F52-4667-9F07-A640E8ED8D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