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615632"/>
        <c:axId val="92260721"/>
      </c:barChart>
      <c:catAx>
        <c:axId val="656156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260721"/>
        <c:crosses val="autoZero"/>
        <c:auto val="1"/>
        <c:lblAlgn val="ctr"/>
        <c:lblOffset val="100"/>
        <c:noMultiLvlLbl val="0"/>
      </c:catAx>
      <c:valAx>
        <c:axId val="922607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6156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EED5-6114-4D30-8DB1-CFCA17ED1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1BB4-8434-436F-BA70-157A7EE88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7FC0-7598-4F45-AE1C-E7F073D16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EE9F-62B0-4DF5-9491-7AFF1DECA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89A0-30D5-4C8B-ADF5-8C28D3F7B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8342-7A6F-4B6F-BAE2-CC18D55B6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A5C3-0D4A-4066-9F78-D35FC66C1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323A-2D10-42B0-BC2A-BAF5F11CD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3A37-988F-4BBD-9CCE-493CF26CE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F486-F0F2-4CC9-A775-6BAE4717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360D-2FB0-4F40-A3C5-F0FFB6DA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9C2C-DCA1-4EE5-AD9F-FC4E726C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45AA10-1FDC-42F1-8B5F-F0520BFF17F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