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00785"/>
        <c:axId val="72316722"/>
      </c:barChart>
      <c:catAx>
        <c:axId val="807007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16722"/>
        <c:crosses val="autoZero"/>
        <c:auto val="1"/>
        <c:lblAlgn val="ctr"/>
        <c:lblOffset val="100"/>
        <c:noMultiLvlLbl val="0"/>
      </c:catAx>
      <c:valAx>
        <c:axId val="723167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007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51A-0B1D-4175-A7A8-6A316970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FB8-0305-4E51-B320-485F949C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A036-E35F-40EB-AA2A-BD1DFEC7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7BC4-EA41-4B3B-9379-425121F9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7798-DBF5-4F5D-9FA4-A52D8613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CE3-1A89-4FF3-A544-77858E49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A2A-AF14-48FA-B987-565B6312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551-DDD7-4A57-BD64-566F822C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A36-16F1-4409-9A77-AD8B3DC3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BAAD-AA76-4A42-8995-0F493290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9F1F-2471-438B-BB0D-1FEF0A97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9EAC-3A0D-4370-9E29-15854732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A71B9-048C-4001-BEFE-5672AF2157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