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565134"/>
        <c:axId val="78203966"/>
      </c:barChart>
      <c:catAx>
        <c:axId val="595651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03966"/>
        <c:crosses val="autoZero"/>
        <c:auto val="1"/>
        <c:lblAlgn val="ctr"/>
        <c:lblOffset val="100"/>
        <c:noMultiLvlLbl val="0"/>
      </c:catAx>
      <c:valAx>
        <c:axId val="782039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651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B20A-3470-4697-ACC6-72E34011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DA9E-B1E0-4723-B81B-8218AEF0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FEE1-C5B7-4827-91F0-D4AFCB3F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0778-8D3C-4881-9FAC-AF3341AC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2634-A712-4792-B91C-725A01FB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42F9-6C7C-4B3E-A0A1-8D485582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243E-6711-40AC-94A1-4E8CE087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79C7-38DA-4DCB-A9EE-E84F62C1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859A-B559-4653-BE88-CC0A54CF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55DF-869B-4903-BB52-FF8D3E41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3BBC-02C1-439A-97AE-11A75577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1F6C-573B-42AA-BF2B-4E199554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9DB52-CD2A-4F38-B00B-AE2DA4F437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