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91009"/>
        <c:axId val="96933796"/>
      </c:barChart>
      <c:catAx>
        <c:axId val="69991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33796"/>
        <c:crosses val="autoZero"/>
        <c:auto val="1"/>
        <c:lblAlgn val="ctr"/>
        <c:lblOffset val="100"/>
        <c:noMultiLvlLbl val="0"/>
      </c:catAx>
      <c:valAx>
        <c:axId val="96933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91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2A5-D658-4833-A116-E9D6261C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4BB-9764-4ECC-AD5A-3BF0B95C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C8C-B3C6-4688-9143-6CD458B8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E1E-09DE-480C-B18A-804FA087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ED7-3C3E-4704-BE0D-AD3AF699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A87-C33A-41D7-A2E8-41FFF995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DFA-DE3D-4CF7-AE08-E99894C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F00-5EEE-4133-B4B0-F4F8758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5E0-A9C5-4918-8D55-980B0A7F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87C-C7C4-4F6E-977B-5CA44167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67F-485E-4F42-AF43-AB29119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A2A-452B-4B70-B25C-93A0EF25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8BDC7-AD06-443C-A472-8914B1E37E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