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48379"/>
        <c:axId val="22728024"/>
      </c:barChart>
      <c:catAx>
        <c:axId val="69248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28024"/>
        <c:crosses val="autoZero"/>
        <c:auto val="1"/>
        <c:lblAlgn val="ctr"/>
        <c:lblOffset val="100"/>
        <c:noMultiLvlLbl val="0"/>
      </c:catAx>
      <c:valAx>
        <c:axId val="22728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8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BBC-A3BD-49F8-B1EA-AAD67609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920-5FF5-41B6-A63B-08937A9A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A4B-858B-4E97-B639-A010416B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FB7-F4FE-4864-92EC-98445BD0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B9C-4F6B-4378-8F54-A5CDA0F1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16F-F327-4375-8BC9-2D8B2BED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A74-5AFB-4077-B4D2-A468D5D4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FA3-58BC-4CD1-B748-D7BF9FAF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80A-F2A1-466F-BE99-60D9967B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8D4-D932-4F65-9056-650EF3A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ED3-C15B-4F28-8BF3-ABF2FE5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4A2-2CF2-4799-BC40-FF50C911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B3D10-BA33-4B5B-8396-E1FA7F6843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