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28448"/>
        <c:axId val="12788558"/>
      </c:barChart>
      <c:catAx>
        <c:axId val="11728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88558"/>
        <c:crosses val="autoZero"/>
        <c:auto val="1"/>
        <c:lblAlgn val="ctr"/>
        <c:lblOffset val="100"/>
        <c:noMultiLvlLbl val="0"/>
      </c:catAx>
      <c:valAx>
        <c:axId val="12788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28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3A3-2604-4D17-B84C-85D6BCBA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78D-2194-4E4E-9A6F-9DD6D2E5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CDF-C289-4FA8-94B9-2BA68308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71F-6AFF-4F5E-A17A-855D5CA8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CA2-DD47-4982-BCAD-F0C9B9FB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F91-52D5-4183-A054-B7A9226B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C3B-1001-432B-9E36-1474BDD5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141-A0E1-49AB-90A5-D9216BC1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02A-99A8-438A-84F3-2E10F87F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275-9743-466B-A3DC-D82005E4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5BD-89BE-41F0-90E8-47F810EA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C998-8082-4A2C-8BCD-C9674064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7B591-C753-4BD4-9CA3-5DDEABCCC5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