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62226"/>
        <c:axId val="53369587"/>
      </c:barChart>
      <c:catAx>
        <c:axId val="24562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69587"/>
        <c:crosses val="autoZero"/>
        <c:auto val="1"/>
        <c:lblAlgn val="ctr"/>
        <c:lblOffset val="100"/>
        <c:noMultiLvlLbl val="0"/>
      </c:catAx>
      <c:valAx>
        <c:axId val="53369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62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3D90-9989-465F-B44B-64E901CC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F9B-A277-4B0D-84FC-9816F251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3B4-C58F-46C4-B268-2BFA44DA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A9E-2D75-47F3-A26F-F056B0CE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7C3-9A54-4CBE-8E02-B41615BD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7AF-C5F3-420A-B205-D54D7AEE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F56-4202-43F1-8721-49AD57BE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D41-72F6-4096-8C11-8E1E4BF6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235-DFCD-4BD7-9612-5ECF9003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582-CA29-4018-AAAA-9DDB2135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40A-1FEA-4471-A743-1DEE9086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520-FDF9-4F68-9328-C930537C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383B8-5C1C-4A36-94A5-C1A39EBA56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