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701350"/>
        <c:axId val="52171164"/>
      </c:barChart>
      <c:catAx>
        <c:axId val="257013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71164"/>
        <c:crosses val="autoZero"/>
        <c:auto val="1"/>
        <c:lblAlgn val="ctr"/>
        <c:lblOffset val="100"/>
        <c:noMultiLvlLbl val="0"/>
      </c:catAx>
      <c:valAx>
        <c:axId val="521711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013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D24-B343-4E28-AF4D-EC3FE88A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9ACF-D09C-4F10-9626-F9E815D4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9036-FF91-4EF8-BAFD-4F36662C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BB5-A434-4E66-914D-07838EE4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160-881F-435D-A9B0-E4C82561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86E-2CE9-4A0F-B38E-07DBF3CC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5680-7A8A-4A96-96C5-C6EB4885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327-8F9A-49F1-81F4-9D6833C4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4E1-040A-43D9-8CD5-BA6088BF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5E8-CCBC-4D4E-A0D5-A6E62A05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6C7B-3BF8-48FC-902F-839C9502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9BA-6439-4ED0-8708-55D88A70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E0B68-C4D5-4FBB-8BC6-0B289401EA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