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15379"/>
        <c:axId val="26544773"/>
      </c:barChart>
      <c:catAx>
        <c:axId val="74915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44773"/>
        <c:crosses val="autoZero"/>
        <c:auto val="1"/>
        <c:lblAlgn val="ctr"/>
        <c:lblOffset val="100"/>
        <c:noMultiLvlLbl val="0"/>
      </c:catAx>
      <c:valAx>
        <c:axId val="26544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15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C9B-B2BC-4261-9348-89A4D74F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93E-938D-4F70-A1AD-6DFDC418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4E5-007D-4017-9B99-A21D6310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220-2486-4D72-BCB6-0BBF03E1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082-FB4E-4D7A-9400-F0F3806B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048-E623-4363-B276-7B0E9A7E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45F-77B7-41C8-A6AB-9B19B0E4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B82-5D81-4505-A145-7DF045D2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F0A-1A93-4C1A-932D-1A550EB4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A54-46CE-4A1D-8DD4-00F9F20B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74B-1D69-447B-A105-AAA9A24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BB5-1B10-4DAF-B986-C7DCEE3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E1DEE-AE28-491F-845E-F52F4C5CDC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