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63853"/>
        <c:axId val="14782106"/>
      </c:barChart>
      <c:catAx>
        <c:axId val="97363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2106"/>
        <c:crosses val="autoZero"/>
        <c:auto val="1"/>
        <c:lblAlgn val="ctr"/>
        <c:lblOffset val="100"/>
        <c:noMultiLvlLbl val="0"/>
      </c:catAx>
      <c:valAx>
        <c:axId val="14782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3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C0B-E980-4E71-8C64-7C8400A5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C9E-ABAE-41AC-81C9-2883504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BE5-2EC1-4ED1-AC0C-F0FD6C71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47C-479C-473A-9667-D36ED8AE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98E-C287-495F-BF5E-E2B9C78C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B9E-7000-4C3E-A927-2B044CA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756-8FAB-40BD-AAD5-0DE62DFA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E86-5FEF-4C4A-A708-6B2E7A4F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0A4-7B10-45AA-A402-BBA4625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0EC-81A7-4D77-BADD-1A223D3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EFE-D505-4ACB-9B3A-F7ED061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A12-D973-4ECF-A709-771A6B8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A46A8-047B-4E30-9877-BE9CACAC4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