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40940"/>
        <c:axId val="62968788"/>
      </c:barChart>
      <c:catAx>
        <c:axId val="45840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68788"/>
        <c:crosses val="autoZero"/>
        <c:auto val="1"/>
        <c:lblAlgn val="ctr"/>
        <c:lblOffset val="100"/>
        <c:noMultiLvlLbl val="0"/>
      </c:catAx>
      <c:valAx>
        <c:axId val="62968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40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C3E-C225-4016-8AD5-F704D9AE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207-9A10-45E8-AABD-F3EC63C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10C-F78C-4C4A-80CB-9E791899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D3B-D5B7-4E88-A4D9-D2C7E5D9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080-57F6-4F01-B849-2E2FD140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C3A-71DD-4F9B-92C5-62AF6288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C6F-D2B3-4060-8B78-BD88488E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706-5859-4521-8F6E-E4D61DC7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F43-1359-4480-AFF0-E0EBB424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634-8C37-4A2F-8982-F5149EA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807-6D2A-40D7-95AE-5459BE9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C8C-7EC8-41AF-807E-22F13874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EC33F-0271-4532-8539-F39BFFB465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