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556847"/>
        <c:axId val="90856780"/>
      </c:barChart>
      <c:catAx>
        <c:axId val="145568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856780"/>
        <c:crosses val="autoZero"/>
        <c:auto val="1"/>
        <c:lblAlgn val="ctr"/>
        <c:lblOffset val="100"/>
        <c:noMultiLvlLbl val="0"/>
      </c:catAx>
      <c:valAx>
        <c:axId val="908567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568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D979-74C2-461B-AF81-5C026CDB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FF58-CF74-4799-AD61-F696A487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7F84-0E4F-4519-BA0E-63AD4CD3B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F376-E467-420A-9F3A-EA994E768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1164-8E0F-4CD2-9824-8034BE67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E717-2B7A-4087-800D-BE8B8B20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9BDE-4548-4E7B-ADA8-AFDD601A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51AA-7A0A-4EF5-8C84-07C55F1F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E394-8D53-48E4-B6A8-ADA717F6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4584-12A7-4997-8B1C-C6C4BA11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A088-C741-434D-9273-70E3318E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2DFF-99C2-4950-8A5A-63D8AECD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2D971-1951-4697-A8E3-359A696B5B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