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56118"/>
        <c:axId val="44895942"/>
      </c:barChart>
      <c:catAx>
        <c:axId val="28156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95942"/>
        <c:crosses val="autoZero"/>
        <c:auto val="1"/>
        <c:lblAlgn val="ctr"/>
        <c:lblOffset val="100"/>
        <c:noMultiLvlLbl val="0"/>
      </c:catAx>
      <c:valAx>
        <c:axId val="44895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56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3F27-C602-4F0F-9CDE-986ADCB2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DC84-FDFE-4179-BD3B-230A4EA6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871-B0A7-419E-A3E3-C250B8F8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0082-A179-4046-967F-7D6A11F5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13A-2F2F-47ED-BED2-22D0452D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039-BBE4-48BB-B2CD-F6A02DD7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FA8-7F85-4FB2-941B-72DC091D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8AD-EAAF-4CEC-B145-451A98A1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776C-62E7-49E8-8F71-393AFED2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3A5-583B-4B48-8C6A-2379C764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F42C-AAAC-4016-AD3C-D410EB72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097-1F58-4141-B671-EF0D1BC1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7DFE4-B166-4566-8E26-84EED9D7A2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