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92244"/>
        <c:axId val="60884289"/>
      </c:barChart>
      <c:catAx>
        <c:axId val="24392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84289"/>
        <c:crosses val="autoZero"/>
        <c:auto val="1"/>
        <c:lblAlgn val="ctr"/>
        <c:lblOffset val="100"/>
        <c:noMultiLvlLbl val="0"/>
      </c:catAx>
      <c:valAx>
        <c:axId val="60884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92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F5E-E1B4-46D3-885E-1E59ED0E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889-6C5B-4F4F-AF24-2FEE7DDF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807-BC5A-42C7-A9A9-35D59779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503-14C0-4041-BC7B-09340000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899-5A10-432B-8C74-74D5FB5F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C49-6170-4086-988F-7E5F7FBA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502-BC82-4FBE-AFF7-E07B711D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650-CD93-49DE-A6E2-BAA6F571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60C-898E-4AAE-9562-CD2AD7B0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EFA-BBF7-40BB-8D0A-0EB0422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BD1-B0F6-4BD8-94D3-BB540E8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F89-0505-4715-96DC-237F9FF3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F8ABE-B97E-4EF7-8EAD-8CE8C42CAA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