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30426"/>
        <c:axId val="30500158"/>
      </c:barChart>
      <c:catAx>
        <c:axId val="94730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00158"/>
        <c:crosses val="autoZero"/>
        <c:auto val="1"/>
        <c:lblAlgn val="ctr"/>
        <c:lblOffset val="100"/>
        <c:noMultiLvlLbl val="0"/>
      </c:catAx>
      <c:valAx>
        <c:axId val="30500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30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71C-7D76-487D-B847-905A7B75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539-08B3-4DA2-B4C3-8467DD8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A0A-5C25-49AE-8754-F4978A73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E1F-44BF-459A-9579-0859AD40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C59-2EDE-4804-AFEB-C10174D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43B-EDD1-4364-B5A4-A478C80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601-9F4D-40BB-AD66-F4C90D96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A30-060D-425B-B8E2-C1288292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7DC-5FC1-4A18-BC91-466C0513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EEE-B0AC-423B-904B-A1CB655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5A6-190C-49F7-9748-345C848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7AE-2C1A-4A3F-8284-6E68A51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81D15-A967-4A95-8FC4-0CECC9843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