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25609"/>
        <c:axId val="69118952"/>
      </c:barChart>
      <c:catAx>
        <c:axId val="49825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18952"/>
        <c:crosses val="autoZero"/>
        <c:auto val="1"/>
        <c:lblAlgn val="ctr"/>
        <c:lblOffset val="100"/>
        <c:noMultiLvlLbl val="0"/>
      </c:catAx>
      <c:valAx>
        <c:axId val="69118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25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EB4-E7F4-46C6-8E12-BE19E0E3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032-5676-4607-9871-63A987B6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7CB-1B1B-420D-85EB-03836556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875-0F45-443C-9FC0-D3DFF814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581-BB42-4176-ABE4-F6E08C11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16D-DB08-439C-AF69-4FD6B518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C10-EE5E-4958-8AC6-2E930C8A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4AB-2D16-45EE-952E-616593A9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D3B-8521-4BC0-B8B9-601D887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98F-4B7B-4641-84EA-6806C1D7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7C4-0EC9-4D60-B3B3-37F695A7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5B6-81A4-49EF-A2F3-0284217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F5D26-AB9B-4452-949C-A383BA38AE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