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0245"/>
        <c:axId val="73843331"/>
      </c:barChart>
      <c:catAx>
        <c:axId val="6620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43331"/>
        <c:crosses val="autoZero"/>
        <c:auto val="1"/>
        <c:lblAlgn val="ctr"/>
        <c:lblOffset val="100"/>
        <c:noMultiLvlLbl val="0"/>
      </c:catAx>
      <c:valAx>
        <c:axId val="73843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0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618-4606-468A-B02D-0BEEA071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F63-CD31-4717-8D02-D5F32951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5EA-8FB9-4CFA-9096-30F92C80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1EE-3595-4053-B375-E2C6A841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51E-381E-4656-9C06-DA16A549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0D8-0880-4E5B-9D1A-0FA91AD9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F58-3709-4426-B1A0-A067CF6F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82B-C265-4585-8468-3ECF3B62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4E8-A9F5-4BAD-9220-755CDF5B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42A-B166-44D8-B192-5F09A222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D52-C189-436E-8B04-4532F69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6E8-1B65-42C3-A217-82036E8C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83DD4-8167-4CF9-B010-D500511E91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