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16833"/>
        <c:axId val="69399660"/>
      </c:barChart>
      <c:catAx>
        <c:axId val="14316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9660"/>
        <c:crosses val="autoZero"/>
        <c:auto val="1"/>
        <c:lblAlgn val="ctr"/>
        <c:lblOffset val="100"/>
        <c:noMultiLvlLbl val="0"/>
      </c:catAx>
      <c:valAx>
        <c:axId val="69399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16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809-6DCA-4D00-94F4-3BC8D3FC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D7B-90AE-4429-A26D-FA0E01B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B21-1591-454F-A11C-F07C8593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86B-0928-474E-91A0-9E787B2B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A19-2551-41A0-8EAB-ADE0591D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34B-63E5-4A5C-8C39-D0382E99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F23-3D97-452A-8F37-DCF673F4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726-2172-47E7-B279-60B2A1A4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3FF-CAE1-4E38-8214-57721DF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B15-A7FE-4F96-8D18-FA4929B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022-83F5-409B-9B0F-1C05BF7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274-0445-489C-A100-37867DD2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97AC9-53E5-4238-A830-C7B2A558FA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