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23602"/>
        <c:axId val="50590137"/>
      </c:barChart>
      <c:catAx>
        <c:axId val="68623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0137"/>
        <c:crosses val="autoZero"/>
        <c:auto val="1"/>
        <c:lblAlgn val="ctr"/>
        <c:lblOffset val="100"/>
        <c:noMultiLvlLbl val="0"/>
      </c:catAx>
      <c:valAx>
        <c:axId val="50590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23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302-EE59-444A-BCC1-7CE3B51A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AD6-32DF-4777-9AC2-4B1E3D4C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3A9-4F4F-40BC-AC38-521A5224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E9A-41B3-408F-ADC0-2F832B8B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EBE-DED9-4428-BF55-E503B2FE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2CD-8248-4C5B-89A3-A734E11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E00-92C2-4237-84BE-308D844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827-750B-4EE1-8A9A-1B4D16FF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746-46EA-471F-B591-DF8C3AD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483-DD48-4FCA-B7EF-4ED4A69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EB8-11EA-417F-9CCF-D097824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C42-96DF-4A9C-89E8-C2A60F4A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20D26-5670-4FCB-936C-4666776F29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