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82244"/>
        <c:axId val="59191958"/>
      </c:barChart>
      <c:catAx>
        <c:axId val="87482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1958"/>
        <c:crosses val="autoZero"/>
        <c:auto val="1"/>
        <c:lblAlgn val="ctr"/>
        <c:lblOffset val="100"/>
        <c:noMultiLvlLbl val="0"/>
      </c:catAx>
      <c:valAx>
        <c:axId val="59191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82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0AC-B5B0-4E91-97CA-6650511F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4CE-4A9F-4423-968E-AB8158AE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B2F-D7F0-4BE2-AC13-69B0F8BA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5A2-0069-48FE-B074-0E6A9BEF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772-B9A8-4CEA-8F4E-873EB5AC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198-CCEB-448B-96B3-AF232AF8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D91-9DBD-4EB2-A105-ABC9BCF4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AAF-ED10-42D3-B8C4-414D2EFD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D3C-1EF0-4840-B75B-04A3C220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192-7A0F-4559-8114-7590185E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626-B0D9-4ADA-9DCD-6AA1044F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BF2-8F52-4291-B725-0C41697B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09C68-D701-4781-B0EB-31F65078B6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