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3267"/>
        <c:axId val="90436267"/>
      </c:barChart>
      <c:catAx>
        <c:axId val="33583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36267"/>
        <c:crosses val="autoZero"/>
        <c:auto val="1"/>
        <c:lblAlgn val="ctr"/>
        <c:lblOffset val="100"/>
        <c:noMultiLvlLbl val="0"/>
      </c:catAx>
      <c:valAx>
        <c:axId val="90436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3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3AA-77E5-44AF-985C-8DEC4159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A03-4770-45DD-80FE-E8A094C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706-43C2-4AE5-9E36-1A038ACB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06C-52AA-450B-9846-7546475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AFD-7AF1-47C0-9C67-D289CFC6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511-DF88-43F1-A829-54416CD1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C83-DC39-4471-AE98-E37D92FF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C72-6539-4A7D-A103-289FCB7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349-C3C7-4E2F-8EEF-AD0CBC4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EA2-861F-4B34-BE7C-4448D58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317-FAB9-44A9-B4DF-38F5DCF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D57-4CD3-4872-A4D4-BADF7DD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5E6CD-BEE2-4DA9-8CF2-F78CC83DCC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