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769345"/>
        <c:axId val="19952511"/>
      </c:barChart>
      <c:catAx>
        <c:axId val="657693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952511"/>
        <c:crosses val="autoZero"/>
        <c:auto val="1"/>
        <c:lblAlgn val="ctr"/>
        <c:lblOffset val="100"/>
        <c:noMultiLvlLbl val="0"/>
      </c:catAx>
      <c:valAx>
        <c:axId val="199525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693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D86E-8C1F-4E0D-A8FD-D534CAFB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01B2-2B7F-4A1D-B70D-C222E432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BFAE-E4D6-4D6B-B974-D31C8C31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744B-19A2-4B77-B17C-8D285B33E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DCAE-2BDE-45D0-9398-9C670E8B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9532-5983-443B-B22B-5E6E9D5D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90FF-6408-4262-8A1D-B9479559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EBEA-4884-408A-96BB-A29A924A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361E-7E83-44E1-B737-BAD7D51B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A916-89AB-4708-AF49-758377CD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067B-6576-4AE3-A48C-28C43C41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1460-9943-41B2-AFE7-E655E818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1F504-8FE0-4FD6-842C-318EBE1C86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