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17795"/>
        <c:axId val="98172069"/>
      </c:barChart>
      <c:catAx>
        <c:axId val="11017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72069"/>
        <c:crosses val="autoZero"/>
        <c:auto val="1"/>
        <c:lblAlgn val="ctr"/>
        <c:lblOffset val="100"/>
        <c:noMultiLvlLbl val="0"/>
      </c:catAx>
      <c:valAx>
        <c:axId val="98172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17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C34-C6EB-4597-81B7-08AE8964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786-71A5-40B9-9734-4EEB6F43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B39-3CC3-4BDB-948D-9D677E59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5E4-907A-41BB-929C-2E689B78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2E2-0FEB-4491-901D-0D7C4796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E9C-DC00-42E6-9553-1D4FB4F4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495-9DFC-462E-AE77-464A9609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38E-02DA-498E-896C-20E59FB6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358-FE95-41C8-8D13-6D634C4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ED6-CA43-4CF9-8A0D-529D01BC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66A-30C4-4344-8A55-E53FB71B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502-C99D-4EE8-87B4-194C350C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13113-B9A5-4548-9713-2E2375BEC1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