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122579"/>
        <c:axId val="7328580"/>
      </c:barChart>
      <c:catAx>
        <c:axId val="651225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28580"/>
        <c:crosses val="autoZero"/>
        <c:auto val="1"/>
        <c:lblAlgn val="ctr"/>
        <c:lblOffset val="100"/>
        <c:noMultiLvlLbl val="0"/>
      </c:catAx>
      <c:valAx>
        <c:axId val="73285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225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BA87-4DBF-4DC3-B72C-D2FBAA1DA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42B0-4C6A-49FD-87CE-EA591824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AE2C-CF95-41A9-A236-5C8470F93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04BB-7762-43F3-9266-ABF9B715A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203F-759A-491F-8E17-4EF3F246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E100-A97A-47E2-9CF6-F58ACAFB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4CD6-FE13-433A-9DB3-B75DA186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4982-B3B9-42BE-820E-C57A5FA2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5B05-15EB-4886-AB56-B38CABE5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C8AE-F9E7-4443-A98B-73B3119B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6243-6716-49AE-A69D-6A52D89B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A669-1FC9-4E96-BDB7-F4ACD1EB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F0DAAA-1CB8-4B63-9862-9B2863FC43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