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10287"/>
        <c:axId val="40162837"/>
      </c:barChart>
      <c:catAx>
        <c:axId val="54810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62837"/>
        <c:crosses val="autoZero"/>
        <c:auto val="1"/>
        <c:lblAlgn val="ctr"/>
        <c:lblOffset val="100"/>
        <c:noMultiLvlLbl val="0"/>
      </c:catAx>
      <c:valAx>
        <c:axId val="401628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10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E39-91ED-4D37-AFDD-52CB391D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00F4-8A1E-48EB-8B8D-C3426EDF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62F-7FF7-4708-AC33-903C757A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277-A5C2-47FC-B380-42A6706A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7A2-E3A6-4011-9801-64EF172A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B1A-6FA0-4B53-ACB0-E47D9487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907-F00E-479B-AA26-21EE9E7B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6A6-BCBE-4F6D-8B8E-6DD91773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8460-CA94-457F-8C24-7E5BC6E9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DA63-6812-4FCB-B423-65A5E622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54A-DDB5-4BB3-B9AF-0B56C636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FFF5-DC04-4F6F-90C4-7C116FB9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735F4-8D28-43DE-8804-836085E9B1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