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8360"/>
        <c:axId val="93638426"/>
      </c:barChart>
      <c:catAx>
        <c:axId val="65198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8426"/>
        <c:crosses val="autoZero"/>
        <c:auto val="1"/>
        <c:lblAlgn val="ctr"/>
        <c:lblOffset val="100"/>
        <c:noMultiLvlLbl val="0"/>
      </c:catAx>
      <c:valAx>
        <c:axId val="93638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8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42F-944E-4CCC-A837-72AC12B5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06D-AE03-4DB5-837A-F5709EEE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B3A-837D-4A40-A10E-4D0FF16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2A4-809B-48EF-A465-3D38239D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F2F-5AEE-4CA4-B8B6-0411B80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3B7-BB9D-435E-A7FA-9D336BC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2B4-396C-4A06-A9F3-879D0A70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985-F621-4C66-BEF3-3BC9DD3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2C4-5581-4611-899C-13C4D80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385-5844-413B-A4A6-16D82D4E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282-F5EB-4890-89F8-3E78894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65B-066B-41C1-BBB9-09622E1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DF7B-F12E-4C25-9EC8-0C15E9D17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