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17936"/>
        <c:axId val="20047636"/>
      </c:barChart>
      <c:catAx>
        <c:axId val="72517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47636"/>
        <c:crosses val="autoZero"/>
        <c:auto val="1"/>
        <c:lblAlgn val="ctr"/>
        <c:lblOffset val="100"/>
        <c:noMultiLvlLbl val="0"/>
      </c:catAx>
      <c:valAx>
        <c:axId val="20047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17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03C-A5A7-4F2C-8491-B1226964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507-9409-41C6-96DE-BBEB8739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FE7-0742-4C25-8225-F46F2CF2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B11-BB2B-4A57-A51C-CB1619DF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D84-2E16-42C7-8940-985C0EC0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628-CD8B-4935-992B-B924A492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DB1-D9FA-4F1E-8055-2302333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3D3-0F36-4699-BB81-F1A68B3E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BE7-420D-49B2-9BBE-3EFF0ECF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8A6-FD4C-4EC0-854B-4FB8486A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487-7896-4A8D-BEF9-DA04C4A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4EF-88CB-4A4C-A7DD-C99297E0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89FDA-2E86-4808-BC69-1C1EA7CC3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