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451398"/>
        <c:axId val="49869938"/>
      </c:barChart>
      <c:catAx>
        <c:axId val="174513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69938"/>
        <c:crosses val="autoZero"/>
        <c:auto val="1"/>
        <c:lblAlgn val="ctr"/>
        <c:lblOffset val="100"/>
        <c:noMultiLvlLbl val="0"/>
      </c:catAx>
      <c:valAx>
        <c:axId val="498699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513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609-3594-4B3F-BFD9-9F8626D2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6292-E6D7-4C18-80B0-FD276BC4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249D-BFBA-4BA3-8C20-B4D9C6FB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B70B-E1AC-4EE2-A2E0-D81106BF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D11B-0FE1-4E74-AA00-4958E14A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7742-ED69-4302-828D-270D9445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E9E7-AFF5-49FF-AB3E-09D8133B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175D-285E-4034-A1E2-3DFE2873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D0BF-4B6D-4B71-9D46-7B75BD1A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2C66-2999-413E-A34B-F8738FE8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05A2-8977-4712-87F5-90C0E07C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F8F5-E9E1-4CD0-8DAA-B3325E43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61957-E392-4002-B509-3333133EA7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