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04469"/>
        <c:axId val="57440510"/>
      </c:barChart>
      <c:catAx>
        <c:axId val="49804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40510"/>
        <c:crosses val="autoZero"/>
        <c:auto val="1"/>
        <c:lblAlgn val="ctr"/>
        <c:lblOffset val="100"/>
        <c:noMultiLvlLbl val="0"/>
      </c:catAx>
      <c:valAx>
        <c:axId val="57440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04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B13-D5C2-43A2-8724-F0DD6D13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559-CECE-434D-A079-5A7C2DC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A47-E3C3-462B-90FA-F1A05CB4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29E-EDD0-4627-A84E-4EDCD6F8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0AE-64CF-4F8C-9FE0-79868B71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94E-CA28-44E1-B540-8A67905E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CD3-ECC3-42BC-9A08-C2432C8E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16D-8148-4806-941F-43B601F6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428-6F84-490A-AB7A-FCBE6550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AE5-3FBB-4C19-AB37-091301A4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65B-A53F-4899-A830-6A1CECE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44D-E37E-4104-AB61-C7A5A299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1EADA-9D7C-4EA1-9320-E9735AF47F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