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65462"/>
        <c:axId val="96746678"/>
      </c:barChart>
      <c:catAx>
        <c:axId val="54665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46678"/>
        <c:crosses val="autoZero"/>
        <c:auto val="1"/>
        <c:lblAlgn val="ctr"/>
        <c:lblOffset val="100"/>
        <c:noMultiLvlLbl val="0"/>
      </c:catAx>
      <c:valAx>
        <c:axId val="96746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65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894-DCE7-479C-99AB-55009094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5A6-CDB3-4D57-A354-8E1A32B2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122-4802-409F-9FBA-CDB3662E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E80E-4F68-425F-A7A9-CEBDF9F1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F06-DBC3-41A6-AA49-15D8A514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170-F947-4830-BB2F-0B55344F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0E8C-07EC-4C87-B8A1-CB341497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1C53-8C97-4A82-9E64-B78C1B54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580D-31ED-4484-B017-9E7AC748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8F9A-3815-423D-B207-8073D3EA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DFE-F8FF-4962-9D85-B5C8DCE9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522-BF71-4012-B760-EEAD262C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AE7E4-40EC-4226-853C-BA4FD6A438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