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78361"/>
        <c:axId val="44886599"/>
      </c:barChart>
      <c:catAx>
        <c:axId val="62178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86599"/>
        <c:crosses val="autoZero"/>
        <c:auto val="1"/>
        <c:lblAlgn val="ctr"/>
        <c:lblOffset val="100"/>
        <c:noMultiLvlLbl val="0"/>
      </c:catAx>
      <c:valAx>
        <c:axId val="44886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78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515-43A6-424A-BD00-73A6F753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8A9-7BDF-4D72-9275-103FA749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547-63D9-4B22-8451-4AB3224D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3F2-0FD4-46DB-82EA-39681B06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A8B-4860-4D8A-9760-E9F2F25D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85F-5CE4-45D4-B3C0-374FF55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B54-B9D5-45CE-BE59-CE342EB0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CEC-909B-451E-9A02-4C642F36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25B-CA31-45A5-93FF-6936A0BB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49D-3C44-4D71-B8F7-D81E891B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BED-A9FD-4BE6-AD9A-27EFF40F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870-38D2-4D67-80E4-A8E196B5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BF76D-2B4B-4DB2-89EF-A44AFAE5A9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