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300312"/>
        <c:axId val="23007119"/>
      </c:barChart>
      <c:catAx>
        <c:axId val="923003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07119"/>
        <c:crosses val="autoZero"/>
        <c:auto val="1"/>
        <c:lblAlgn val="ctr"/>
        <c:lblOffset val="100"/>
        <c:noMultiLvlLbl val="0"/>
      </c:catAx>
      <c:valAx>
        <c:axId val="230071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3003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52B8-F61B-4290-8C28-50255812A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A08E-D071-46E0-8266-FDD1A0C8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AF70-DB73-40E0-BBE5-239623F4C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A7BB-839D-48D9-AF3D-EA7BAFCA1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44B8-8C45-459A-B161-39123D04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D75F-9B48-48D1-9FEE-49D3772E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339B-69AA-42B9-B5A7-3404BBF4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5523-BFFE-4BB3-83CD-5DFD6EB9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2909-4CD1-4938-B666-D2B29BA1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3316-F3AB-4979-AA30-EE1A51E8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2BA6-24E3-4E06-AB2D-F5AB5194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EAB9-CEBD-40B8-A2EC-F1FF911B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D93DC-111C-418D-900C-91806A50F2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