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200111"/>
        <c:axId val="5838393"/>
      </c:barChart>
      <c:catAx>
        <c:axId val="162001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8393"/>
        <c:crosses val="autoZero"/>
        <c:auto val="1"/>
        <c:lblAlgn val="ctr"/>
        <c:lblOffset val="100"/>
        <c:noMultiLvlLbl val="0"/>
      </c:catAx>
      <c:valAx>
        <c:axId val="58383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001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2638-F437-4CC6-8C59-A708D310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A4A-03AD-47DA-ABF4-D725F6E3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E8A4-798E-40E8-AFA0-C470FBBC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6B77-818C-4744-B9DF-479D434F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5F97-84A3-42CA-8347-70CA1DD7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A2C0-D2A2-4239-BB00-1A2F3F56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4A7D-D2B5-4B95-8DBA-E8684D4A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82A7-E5D3-4E3D-9C49-7FDFA4EF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718F-0E3E-4D75-9975-E5CEA739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B320-5BAB-4689-933C-92505550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AC66-FFDA-4B70-8D0B-4ACAA8E9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4ED6-9956-46EA-A006-2AA90681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AAAD0-A411-4D56-B659-8BCF6B078A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